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330-3390-4EEC-A196-1DA2FD6B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C4D-8D51-4A9D-BD20-BC610363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68F-8B38-47B9-8109-EA8951F7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D92-2064-49A7-ABFA-BA0A5419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C807-A2EF-4035-AE8C-D966B933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C394-A398-407D-8A45-1B77DAD3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3F36-37FF-4584-9F9C-E27F1C70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7127-8647-4760-BA7A-2C3CAEB6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0644-BF88-4527-9DF5-5F86B05B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55F1-E3CC-40A6-9B31-39C64236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B249-A583-485A-B0FF-DD0C22A8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E9A-037C-4990-B6C4-7EB1683F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4760-C1C9-4992-A40F-12B8030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D24B-4612-4E18-87DB-DD0AC2A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C77B-C4DA-4327-A3AE-10E9EF24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9091-BC33-41B2-BEC3-0748DEA8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FF58-132E-4813-A493-FED6AC85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948-DF89-41E6-A43F-B46C6150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DFF-81DF-45A3-A4C9-3E41A3B1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424-6D74-43C1-B4C9-C6725613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B27-F59A-437A-8864-9E0D4604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EB5-4E31-4B8F-B6A3-C173F8C4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3E4-5D84-4DE1-82C3-EC10180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E4A-92AA-4FCF-8B57-87156A4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13A5-F5B5-436A-94A8-9F9C69153C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1B56-E79A-4C3B-A1A8-4D0DF2EAD9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arpers_8_11_1877_6th_Regiment_Fighting_Baltimore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4:  Workers Unite under Labor Unions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conditions + unions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ggles between labor an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.  Early Un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Union - representatives of workers in various prof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Unions – unions based on a particular craft; ie, carpentry, electr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l Unions – unions based on workers of a particular industry; ie, cars, steel, 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.  Opposition from Industr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Strategies to stop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 had to sign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listed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scabs – strikebr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Unions seen as getting in the way of property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.  Political and Social Opposi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Unions are “un-Americ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nt agains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pital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conomic system consisting of private ownership of business; prices determined by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rx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rkers control industries and go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gov’t controls major industries; share the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o government needed; people could rule themselves; was big in Europe/immi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.  Major Strikes/Rio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680" y="1295280"/>
            <a:ext cx="373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 RR Strike of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stead Steel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man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market  R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sulted in violence, gov’t got involved to stop violence = decrease in union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Sixth Regiment fighting its way through Baltimore, MD, 20 July, 18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143000"/>
            <a:ext cx="254016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ullman workers"/>
          <p:cNvPicPr/>
          <p:nvPr/>
        </p:nvPicPr>
        <p:blipFill>
          <a:blip r:embed="rId3"/>
          <a:stretch/>
        </p:blipFill>
        <p:spPr>
          <a:xfrm>
            <a:off x="5791320" y="4486320"/>
            <a:ext cx="3352680" cy="21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Knights of Labor (KL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3716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bi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ird party helps with negotiations)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ycot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 of str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picket line"/>
          <p:cNvPicPr/>
          <p:nvPr/>
        </p:nvPicPr>
        <p:blipFill>
          <a:blip r:embed="rId1"/>
          <a:stretch/>
        </p:blipFill>
        <p:spPr>
          <a:xfrm>
            <a:off x="2743200" y="2895480"/>
            <a:ext cx="556272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.  New Unions Emerg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9903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merican Federation of Labor (AF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by Samuel Gom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: Wages, working hrs, working conditions and 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sed sho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ire only union members; non-union immigrants worked too chea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ed against women and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2.  Industrial Workers of the World (IWW AKA Wobblies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rsed str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-685800">
              <a:buClr>
                <a:srgbClr val="8c003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orking Women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d less than men regardless of the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unions exclude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 Jo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the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formed their own unions; garment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.  Exploited Wor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6-7 day/w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hr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working conditions=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ge issue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TXT3"/>
          <p:cNvPicPr/>
          <p:nvPr/>
        </p:nvPicPr>
        <p:blipFill>
          <a:blip r:embed="rId1"/>
          <a:stretch/>
        </p:blipFill>
        <p:spPr>
          <a:xfrm>
            <a:off x="5410080" y="1652760"/>
            <a:ext cx="3733920" cy="25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omen and Childre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hild labor"/>
          <p:cNvPicPr/>
          <p:nvPr/>
        </p:nvPicPr>
        <p:blipFill>
          <a:blip r:embed="rId1"/>
          <a:stretch/>
        </p:blipFill>
        <p:spPr>
          <a:xfrm>
            <a:off x="2362320" y="1295280"/>
            <a:ext cx="6549840" cy="44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view"/>
          <p:cNvPicPr/>
          <p:nvPr/>
        </p:nvPicPr>
        <p:blipFill>
          <a:blip r:embed="rId1"/>
          <a:stretch/>
        </p:blipFill>
        <p:spPr>
          <a:xfrm>
            <a:off x="2286000" y="1752480"/>
            <a:ext cx="6708600" cy="4754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ill wor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selling"/>
          <p:cNvPicPr/>
          <p:nvPr/>
        </p:nvPicPr>
        <p:blipFill>
          <a:blip r:embed="rId1"/>
          <a:stretch/>
        </p:blipFill>
        <p:spPr>
          <a:xfrm>
            <a:off x="2209680" y="1676520"/>
            <a:ext cx="6743880" cy="4674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wsies”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ust"/>
          <p:cNvPicPr/>
          <p:nvPr/>
        </p:nvPicPr>
        <p:blipFill>
          <a:blip r:embed="rId1"/>
          <a:stretch/>
        </p:blipFill>
        <p:spPr>
          <a:xfrm>
            <a:off x="2362320" y="1905120"/>
            <a:ext cx="648000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in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64008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london"/>
          <p:cNvPicPr/>
          <p:nvPr/>
        </p:nvPicPr>
        <p:blipFill>
          <a:blip r:embed="rId1"/>
          <a:stretch/>
        </p:blipFill>
        <p:spPr>
          <a:xfrm>
            <a:off x="2362320" y="1600200"/>
            <a:ext cx="645768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ctory wor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27" descr="biloxi"/>
          <p:cNvPicPr/>
          <p:nvPr/>
        </p:nvPicPr>
        <p:blipFill>
          <a:blip r:embed="rId1"/>
          <a:stretch/>
        </p:blipFill>
        <p:spPr>
          <a:xfrm>
            <a:off x="2286000" y="2057400"/>
            <a:ext cx="6504120" cy="4560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afood wor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ruit pi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7" name="Picture 4" descr="camille"/>
          <p:cNvPicPr/>
          <p:nvPr/>
        </p:nvPicPr>
        <p:blipFill>
          <a:blip r:embed="rId1"/>
          <a:stretch/>
        </p:blipFill>
        <p:spPr>
          <a:xfrm>
            <a:off x="2362320" y="1981080"/>
            <a:ext cx="6446880" cy="441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0-14T19:57:41Z</dcterms:modified>
  <cp:revision>15</cp:revision>
  <dc:subject/>
  <dc:title>PowerPoint Presentation</dc:title>
</cp:coreProperties>
</file>